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122480" y="78444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utomatic Evalu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2230560"/>
            <a:ext cx="100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hilipp Koeh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6840" y="3338640"/>
            <a:ext cx="100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mputer Science and Artificial Intelligence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assachusetts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773520" y="4789440"/>
            <a:ext cx="2516040" cy="21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494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Optimize Systems for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12200" y="3284640"/>
            <a:ext cx="1523520" cy="1759680"/>
            <a:chOff x="2212200" y="3284640"/>
            <a:chExt cx="1523520" cy="1759680"/>
          </a:xfrm>
        </p:grpSpPr>
        <p:sp>
          <p:nvSpPr>
            <p:cNvPr id="154" name=""/>
            <p:cNvSpPr/>
            <p:nvPr/>
          </p:nvSpPr>
          <p:spPr>
            <a:xfrm>
              <a:off x="2270160" y="3284640"/>
              <a:ext cx="1409760" cy="887400"/>
            </a:xfrm>
            <a:prstGeom prst="roundRect">
              <a:avLst>
                <a:gd name="adj" fmla="val 17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212200" y="3284640"/>
              <a:ext cx="1523520" cy="1759680"/>
              <a:chOff x="2212200" y="3284640"/>
              <a:chExt cx="1523520" cy="1759680"/>
            </a:xfrm>
          </p:grpSpPr>
          <p:sp>
            <p:nvSpPr>
              <p:cNvPr id="156" name=""/>
              <p:cNvSpPr/>
              <p:nvPr/>
            </p:nvSpPr>
            <p:spPr>
              <a:xfrm>
                <a:off x="2270160" y="3284640"/>
                <a:ext cx="1406520" cy="885600"/>
              </a:xfrm>
              <a:prstGeom prst="roundRect">
                <a:avLst>
                  <a:gd name="adj" fmla="val 17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2212200" y="3284640"/>
                <a:ext cx="1523520" cy="1759680"/>
                <a:chOff x="2212200" y="3284640"/>
                <a:chExt cx="1523520" cy="17596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270160" y="3284640"/>
                  <a:ext cx="1406520" cy="885600"/>
                </a:xfrm>
                <a:prstGeom prst="roundRect">
                  <a:avLst>
                    <a:gd name="adj" fmla="val 17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12200" y="3284640"/>
                  <a:ext cx="1523520" cy="175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7000"/>
                    </a:lnSpc>
                    <a:tabLst>
                      <a:tab algn="l" pos="0"/>
                      <a:tab algn="l" pos="723960"/>
                      <a:tab algn="l" pos="14479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  <a:ea typeface="HG Mincho Light J"/>
                    </a:rPr>
                    <a:t>Translation 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  <a:ea typeface="HG Mincho Light J"/>
                    </a:rPr>
                    <a:t>System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  <a:ea typeface="HG Mincho Light J"/>
                    </a:rPr>
                    <a:t>(Automatic,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  <a:ea typeface="HG Mincho Light J"/>
                    </a:rPr>
                    <a:t>Trainable)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0" name=""/>
          <p:cNvGrpSpPr/>
          <p:nvPr/>
        </p:nvGrpSpPr>
        <p:grpSpPr>
          <a:xfrm>
            <a:off x="5870880" y="3160800"/>
            <a:ext cx="1674360" cy="1822320"/>
            <a:chOff x="5870880" y="3160800"/>
            <a:chExt cx="1674360" cy="1822320"/>
          </a:xfrm>
        </p:grpSpPr>
        <p:sp>
          <p:nvSpPr>
            <p:cNvPr id="161" name=""/>
            <p:cNvSpPr/>
            <p:nvPr/>
          </p:nvSpPr>
          <p:spPr>
            <a:xfrm>
              <a:off x="5954760" y="3160800"/>
              <a:ext cx="1409760" cy="1253880"/>
            </a:xfrm>
            <a:prstGeom prst="roundRect">
              <a:avLst>
                <a:gd name="adj" fmla="val 12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870880" y="3160800"/>
              <a:ext cx="1674360" cy="1822320"/>
              <a:chOff x="5870880" y="3160800"/>
              <a:chExt cx="1674360" cy="1822320"/>
            </a:xfrm>
          </p:grpSpPr>
          <p:sp>
            <p:nvSpPr>
              <p:cNvPr id="163" name=""/>
              <p:cNvSpPr/>
              <p:nvPr/>
            </p:nvSpPr>
            <p:spPr>
              <a:xfrm>
                <a:off x="6004080" y="3160800"/>
                <a:ext cx="1406520" cy="1084320"/>
              </a:xfrm>
              <a:prstGeom prst="roundRect">
                <a:avLst>
                  <a:gd name="adj" fmla="val 14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5870880" y="3160800"/>
                <a:ext cx="1674360" cy="1822320"/>
                <a:chOff x="5870880" y="3160800"/>
                <a:chExt cx="1674360" cy="18223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6004080" y="3160800"/>
                  <a:ext cx="1406520" cy="1084320"/>
                </a:xfrm>
                <a:prstGeom prst="roundRect">
                  <a:avLst>
                    <a:gd name="adj" fmla="val 144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0880" y="3162240"/>
                  <a:ext cx="1674360" cy="182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7000"/>
                    </a:lnSpc>
                    <a:tabLst>
                      <a:tab algn="l" pos="0"/>
                      <a:tab algn="l" pos="723960"/>
                      <a:tab algn="l" pos="14479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  <a:ea typeface="HG Mincho Light J"/>
                    </a:rPr>
                    <a:t>Translation 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  <a:ea typeface="HG Mincho Light J"/>
                    </a:rPr>
                    <a:t>Quality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  <a:ea typeface="HG Mincho Light J"/>
                    </a:rPr>
                    <a:t>Evaluato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HG Mincho Light J"/>
                    </a:rPr>
                    <a:t>(Automatic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7" name=""/>
          <p:cNvGrpSpPr/>
          <p:nvPr/>
        </p:nvGrpSpPr>
        <p:grpSpPr>
          <a:xfrm>
            <a:off x="693720" y="3516480"/>
            <a:ext cx="1234800" cy="488880"/>
            <a:chOff x="693720" y="3516480"/>
            <a:chExt cx="1234800" cy="488880"/>
          </a:xfrm>
        </p:grpSpPr>
        <p:sp>
          <p:nvSpPr>
            <p:cNvPr id="168" name=""/>
            <p:cNvSpPr/>
            <p:nvPr/>
          </p:nvSpPr>
          <p:spPr>
            <a:xfrm>
              <a:off x="693720" y="3516480"/>
              <a:ext cx="814320" cy="488880"/>
            </a:xfrm>
            <a:prstGeom prst="roundRect">
              <a:avLst>
                <a:gd name="adj" fmla="val 32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95160" y="3516480"/>
              <a:ext cx="1233360" cy="488880"/>
              <a:chOff x="695160" y="3516480"/>
              <a:chExt cx="1233360" cy="488880"/>
            </a:xfrm>
          </p:grpSpPr>
          <p:sp>
            <p:nvSpPr>
              <p:cNvPr id="170" name=""/>
              <p:cNvSpPr/>
              <p:nvPr/>
            </p:nvSpPr>
            <p:spPr>
              <a:xfrm>
                <a:off x="695160" y="3516480"/>
                <a:ext cx="812880" cy="488880"/>
              </a:xfrm>
              <a:prstGeom prst="roundRect">
                <a:avLst>
                  <a:gd name="adj" fmla="val 32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8480" y="3516480"/>
                <a:ext cx="1130040" cy="44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723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Foreig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4221000" y="3348000"/>
            <a:ext cx="1562040" cy="857160"/>
            <a:chOff x="4221000" y="3348000"/>
            <a:chExt cx="1562040" cy="857160"/>
          </a:xfrm>
        </p:grpSpPr>
        <p:sp>
          <p:nvSpPr>
            <p:cNvPr id="173" name=""/>
            <p:cNvSpPr/>
            <p:nvPr/>
          </p:nvSpPr>
          <p:spPr>
            <a:xfrm>
              <a:off x="4221000" y="3348000"/>
              <a:ext cx="1260720" cy="857160"/>
            </a:xfrm>
            <a:prstGeom prst="roundRect">
              <a:avLst>
                <a:gd name="adj" fmla="val 18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4221000" y="3348000"/>
              <a:ext cx="1562040" cy="857160"/>
              <a:chOff x="4221000" y="3348000"/>
              <a:chExt cx="1562040" cy="857160"/>
            </a:xfrm>
          </p:grpSpPr>
          <p:sp>
            <p:nvSpPr>
              <p:cNvPr id="175" name=""/>
              <p:cNvSpPr/>
              <p:nvPr/>
            </p:nvSpPr>
            <p:spPr>
              <a:xfrm>
                <a:off x="4221000" y="3348000"/>
                <a:ext cx="1258920" cy="857160"/>
              </a:xfrm>
              <a:prstGeom prst="roundRect">
                <a:avLst>
                  <a:gd name="adj" fmla="val 18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21720" y="3348000"/>
                <a:ext cx="156132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Englis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MT Out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5789880" y="1473120"/>
            <a:ext cx="3234960" cy="1180080"/>
            <a:chOff x="5789880" y="1473120"/>
            <a:chExt cx="3234960" cy="1180080"/>
          </a:xfrm>
        </p:grpSpPr>
        <p:sp>
          <p:nvSpPr>
            <p:cNvPr id="178" name=""/>
            <p:cNvSpPr/>
            <p:nvPr/>
          </p:nvSpPr>
          <p:spPr>
            <a:xfrm>
              <a:off x="5791320" y="1473120"/>
              <a:ext cx="2644560" cy="912960"/>
            </a:xfrm>
            <a:prstGeom prst="roundRect">
              <a:avLst>
                <a:gd name="adj" fmla="val 1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789880" y="1473120"/>
              <a:ext cx="3234960" cy="1180080"/>
              <a:chOff x="5789880" y="1473120"/>
              <a:chExt cx="3234960" cy="1180080"/>
            </a:xfrm>
          </p:grpSpPr>
          <p:sp>
            <p:nvSpPr>
              <p:cNvPr id="180" name=""/>
              <p:cNvSpPr/>
              <p:nvPr/>
            </p:nvSpPr>
            <p:spPr>
              <a:xfrm>
                <a:off x="5792760" y="1473120"/>
                <a:ext cx="2643120" cy="912960"/>
              </a:xfrm>
              <a:prstGeom prst="roundRect">
                <a:avLst>
                  <a:gd name="adj" fmla="val 1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89880" y="1473120"/>
                <a:ext cx="3234960" cy="11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Englis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Reference Transl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(sample “right answers”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7848720" y="3332160"/>
            <a:ext cx="977040" cy="857160"/>
            <a:chOff x="7848720" y="3332160"/>
            <a:chExt cx="977040" cy="857160"/>
          </a:xfrm>
        </p:grpSpPr>
        <p:sp>
          <p:nvSpPr>
            <p:cNvPr id="183" name=""/>
            <p:cNvSpPr/>
            <p:nvPr/>
          </p:nvSpPr>
          <p:spPr>
            <a:xfrm>
              <a:off x="7848720" y="3332160"/>
              <a:ext cx="777600" cy="857160"/>
            </a:xfrm>
            <a:custGeom>
              <a:avLst/>
              <a:gdLst>
                <a:gd name="textAreaLeft" fmla="*/ 360 w 777600"/>
                <a:gd name="textAreaRight" fmla="*/ 777240 w 777600"/>
                <a:gd name="textAreaTop" fmla="*/ 360 h 857160"/>
                <a:gd name="textAreaBottom" fmla="*/ 856800 h 857160"/>
              </a:gdLst>
              <a:ahLst/>
              <a:rect l="textAreaLeft" t="textAreaTop" r="textAreaRight" b="textAreaBottom"/>
              <a:pathLst>
                <a:path w="21600" h="23809">
                  <a:moveTo>
                    <a:pt x="44" y="0"/>
                  </a:moveTo>
                  <a:arcTo wR="44" hR="44" stAng="16200000" swAng="-5400000"/>
                  <a:lnTo>
                    <a:pt x="0" y="23765"/>
                  </a:lnTo>
                  <a:arcTo wR="44" hR="44" stAng="10800000" swAng="-5400000"/>
                  <a:lnTo>
                    <a:pt x="21556" y="23809"/>
                  </a:lnTo>
                  <a:arcTo wR="44" hR="44" stAng="5400000" swAng="-5400000"/>
                  <a:lnTo>
                    <a:pt x="21600" y="44"/>
                  </a:lnTo>
                  <a:arcTo wR="44" hR="44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7848720" y="3332160"/>
              <a:ext cx="977040" cy="857160"/>
              <a:chOff x="7848720" y="3332160"/>
              <a:chExt cx="977040" cy="857160"/>
            </a:xfrm>
          </p:grpSpPr>
          <p:sp>
            <p:nvSpPr>
              <p:cNvPr id="185" name=""/>
              <p:cNvSpPr/>
              <p:nvPr/>
            </p:nvSpPr>
            <p:spPr>
              <a:xfrm>
                <a:off x="7848720" y="3332160"/>
                <a:ext cx="777600" cy="857160"/>
              </a:xfrm>
              <a:custGeom>
                <a:avLst/>
                <a:gdLst>
                  <a:gd name="textAreaLeft" fmla="*/ 360 w 777600"/>
                  <a:gd name="textAreaRight" fmla="*/ 777240 w 777600"/>
                  <a:gd name="textAreaTop" fmla="*/ 360 h 857160"/>
                  <a:gd name="textAreaBottom" fmla="*/ 856800 h 857160"/>
                </a:gdLst>
                <a:ahLst/>
                <a:rect l="textAreaLeft" t="textAreaTop" r="textAreaRight" b="textAreaBottom"/>
                <a:pathLst>
                  <a:path w="21600" h="23809">
                    <a:moveTo>
                      <a:pt x="44" y="0"/>
                    </a:moveTo>
                    <a:arcTo wR="44" hR="44" stAng="16200000" swAng="-5400000"/>
                    <a:lnTo>
                      <a:pt x="0" y="23765"/>
                    </a:lnTo>
                    <a:arcTo wR="44" hR="44" stAng="10800000" swAng="-5400000"/>
                    <a:lnTo>
                      <a:pt x="21556" y="23809"/>
                    </a:lnTo>
                    <a:arcTo wR="44" hR="44" stAng="5400000" swAng="-5400000"/>
                    <a:lnTo>
                      <a:pt x="21600" y="44"/>
                    </a:lnTo>
                    <a:arcTo wR="44" hR="44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50880" y="3332160"/>
                <a:ext cx="97488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723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BLE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sco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1828800" y="375768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3757680"/>
            <a:ext cx="381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375768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375768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2709720"/>
            <a:ext cx="18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68520" y="5253120"/>
            <a:ext cx="7385040" cy="809640"/>
            <a:chOff x="1568520" y="5253120"/>
            <a:chExt cx="7385040" cy="809640"/>
          </a:xfrm>
        </p:grpSpPr>
        <p:sp>
          <p:nvSpPr>
            <p:cNvPr id="193" name=""/>
            <p:cNvSpPr/>
            <p:nvPr/>
          </p:nvSpPr>
          <p:spPr>
            <a:xfrm>
              <a:off x="1568520" y="5253120"/>
              <a:ext cx="5146560" cy="809640"/>
            </a:xfrm>
            <a:custGeom>
              <a:avLst/>
              <a:gdLst/>
              <a:ahLst/>
              <a:rect l="l" t="t" r="r" b="b"/>
              <a:pathLst>
                <a:path w="14297" h="2251">
                  <a:moveTo>
                    <a:pt x="10232" y="2250"/>
                  </a:moveTo>
                  <a:cubicBezTo>
                    <a:pt x="6120" y="2245"/>
                    <a:pt x="2019" y="1499"/>
                    <a:pt x="2055" y="748"/>
                  </a:cubicBezTo>
                  <a:lnTo>
                    <a:pt x="0" y="748"/>
                  </a:lnTo>
                  <a:lnTo>
                    <a:pt x="4062" y="0"/>
                  </a:lnTo>
                  <a:lnTo>
                    <a:pt x="8175" y="748"/>
                  </a:lnTo>
                  <a:lnTo>
                    <a:pt x="6120" y="748"/>
                  </a:lnTo>
                  <a:cubicBezTo>
                    <a:pt x="6073" y="1499"/>
                    <a:pt x="10185" y="2245"/>
                    <a:pt x="14296" y="2250"/>
                  </a:cubicBezTo>
                  <a:lnTo>
                    <a:pt x="10232" y="2250"/>
                  </a:lnTo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51320" y="5254560"/>
              <a:ext cx="3702240" cy="808200"/>
            </a:xfrm>
            <a:custGeom>
              <a:avLst/>
              <a:gdLst/>
              <a:ahLst/>
              <a:rect l="l" t="t" r="r" b="b"/>
              <a:pathLst>
                <a:path w="10282" h="2245">
                  <a:moveTo>
                    <a:pt x="10281" y="0"/>
                  </a:moveTo>
                  <a:cubicBezTo>
                    <a:pt x="10234" y="1124"/>
                    <a:pt x="7150" y="2244"/>
                    <a:pt x="4063" y="2244"/>
                  </a:cubicBezTo>
                  <a:lnTo>
                    <a:pt x="0" y="2244"/>
                  </a:lnTo>
                  <a:cubicBezTo>
                    <a:pt x="5128" y="2244"/>
                    <a:pt x="6169" y="1124"/>
                    <a:pt x="6205" y="0"/>
                  </a:cubicBezTo>
                  <a:lnTo>
                    <a:pt x="10281" y="0"/>
                  </a:lnTo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25440" y="6248520"/>
            <a:ext cx="80470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84700"/>
                </a:solidFill>
                <a:latin typeface="Times New Roman"/>
                <a:ea typeface="HG Mincho Light J"/>
              </a:rPr>
              <a:t>Learning algorithm for directly reducing transla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84700"/>
                </a:solidFill>
                <a:latin typeface="Zapf Dingbats"/>
                <a:ea typeface="Zapf Dingbats"/>
              </a:rPr>
              <a:t></a:t>
            </a:r>
            <a:r>
              <a:rPr b="0" lang="en-GB" sz="2400" spc="-1" strike="noStrike">
                <a:solidFill>
                  <a:srgbClr val="b84700"/>
                </a:solidFill>
                <a:latin typeface="Times New Roman"/>
                <a:ea typeface="HG Mincho Light J"/>
              </a:rPr>
              <a:t> </a:t>
            </a:r>
            <a:r>
              <a:rPr b="0" lang="en-GB" sz="2400" spc="-1" strike="noStrike">
                <a:solidFill>
                  <a:srgbClr val="b84700"/>
                </a:solidFill>
                <a:latin typeface="Times New Roman"/>
                <a:ea typeface="HG Mincho Light J"/>
              </a:rPr>
              <a:t>big improvements in qu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2920" y="256680"/>
            <a:ext cx="86072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riticisms of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7080" y="163332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ensitive to global syntactic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words are more important than others (“not” vs. “the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ore by itself is not very meaningfu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s 0.34 good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b613d"/>
                </a:solidFill>
                <a:latin typeface="Times New Roman"/>
              </a:rPr>
              <a:t>... but does this ma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b613d"/>
                </a:solidFill>
                <a:latin typeface="Times New Roman"/>
              </a:rPr>
              <a:t>... can it be fix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2920" y="256680"/>
            <a:ext cx="86072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s BLEU per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7080" y="1633680"/>
            <a:ext cx="8607600" cy="51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very useful tool at this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cav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makes sense for large test sets (1000s senten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LEU does not work for single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lems with BLEU have to be demonstrated by lack of correlation with human jugdemen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body cares about anecdotal criti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BLEU be improved?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is a lot of work in MT Evaluati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7080" y="30492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omatic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9440" y="1827360"/>
            <a:ext cx="90486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automatic evaluation metric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ual evaluation is too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aluation on large test sets reveals minor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tomatic tuning to improve machine translati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Error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LEU since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LEU in short: </a:t>
            </a:r>
            <a:r>
              <a:rPr b="0" lang="en-GB" sz="3200" spc="-1" strike="noStrike">
                <a:solidFill>
                  <a:srgbClr val="b84700"/>
                </a:solidFill>
                <a:latin typeface="Times New Roman"/>
              </a:rPr>
              <a:t>Overlap with reference trans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464040"/>
            <a:ext cx="910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LEU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676520"/>
            <a:ext cx="85107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he gunman was shot to death by the police .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Reference Translation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he gunman was police kill .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1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wounded police jaya of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2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he gunman was shot dead by the police .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3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he gunman arrested by police kill .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4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he gunmen were killed .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5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he gunman was shot to death by the police .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unmen were killed by police ?SUB&gt;0 ?SUB&gt;0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l by the police .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8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he ringer is killed by the police .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9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olice killed the gunman .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33"/>
                </a:solidFill>
                <a:latin typeface="Times New Roman"/>
                <a:ea typeface="HG Mincho Light J"/>
              </a:rPr>
              <a:t>What is the best translation?</a:t>
            </a:r>
            <a:br>
              <a:rPr sz="22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64040"/>
            <a:ext cx="913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LEU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676520"/>
            <a:ext cx="851076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he gunman was shot to death by the police .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Reference Translation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c0c0"/>
                </a:solidFill>
                <a:latin typeface="Times New Roman"/>
                <a:ea typeface="HG Mincho Light J"/>
              </a:rPr>
              <a:t>th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c0"/>
                </a:solidFill>
                <a:latin typeface="Times New Roman"/>
                <a:ea typeface="HG Mincho Light J"/>
              </a:rPr>
              <a:t>gunman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c0"/>
                </a:solidFill>
                <a:latin typeface="Times New Roman"/>
                <a:ea typeface="HG Mincho Light J"/>
              </a:rPr>
              <a:t>wa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c000c0"/>
                </a:solidFill>
                <a:latin typeface="Times New Roman"/>
                <a:ea typeface="HG Mincho Light J"/>
              </a:rPr>
              <a:t>polic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kill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c000c0"/>
                </a:solidFill>
                <a:latin typeface="Times New Roman"/>
                <a:ea typeface="HG Mincho Light J"/>
              </a:rPr>
              <a:t>.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1</a:t>
            </a:r>
            <a:br>
              <a:rPr sz="2200"/>
            </a:b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wounde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c000c0"/>
                </a:solidFill>
                <a:latin typeface="Times New Roman"/>
                <a:ea typeface="HG Mincho Light J"/>
              </a:rPr>
              <a:t>polic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jaya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of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2</a:t>
            </a:r>
            <a:br>
              <a:rPr sz="2200"/>
            </a:b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th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gunman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wa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shot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d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by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th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polic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.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3</a:t>
            </a:r>
            <a:br>
              <a:rPr sz="2200"/>
            </a:br>
            <a:r>
              <a:rPr b="1" lang="en-GB" sz="2200" spc="-1" strike="noStrike">
                <a:solidFill>
                  <a:srgbClr val="0000ff"/>
                </a:solidFill>
                <a:latin typeface="Times New Roman"/>
                <a:ea typeface="HG Mincho Light J"/>
              </a:rPr>
              <a:t>th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ff"/>
                </a:solidFill>
                <a:latin typeface="Times New Roman"/>
                <a:ea typeface="HG Mincho Light J"/>
              </a:rPr>
              <a:t>gunman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rreste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c000c0"/>
                </a:solidFill>
                <a:latin typeface="Times New Roman"/>
                <a:ea typeface="HG Mincho Light J"/>
              </a:rPr>
              <a:t>by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c000c0"/>
                </a:solidFill>
                <a:latin typeface="Times New Roman"/>
                <a:ea typeface="HG Mincho Light J"/>
              </a:rPr>
              <a:t>polic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kill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c000c0"/>
                </a:solidFill>
                <a:latin typeface="Times New Roman"/>
                <a:ea typeface="HG Mincho Light J"/>
              </a:rPr>
              <a:t>.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4</a:t>
            </a:r>
            <a:br>
              <a:rPr sz="2200"/>
            </a:br>
            <a:r>
              <a:rPr b="1" lang="en-GB" sz="2200" spc="-1" strike="noStrike">
                <a:solidFill>
                  <a:srgbClr val="c000c0"/>
                </a:solidFill>
                <a:latin typeface="Times New Roman"/>
                <a:ea typeface="HG Mincho Light J"/>
              </a:rPr>
              <a:t>th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gunmen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wer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kille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c000c0"/>
                </a:solidFill>
                <a:latin typeface="Times New Roman"/>
                <a:ea typeface="HG Mincho Light J"/>
              </a:rPr>
              <a:t>.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5</a:t>
            </a:r>
            <a:br>
              <a:rPr sz="2200"/>
            </a:b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th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gunman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wa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shot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to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death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by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th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polic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.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gunmen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wer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kille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c000c0"/>
                </a:solidFill>
                <a:latin typeface="Times New Roman"/>
                <a:ea typeface="HG Mincho Light J"/>
              </a:rPr>
              <a:t>by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c000c0"/>
                </a:solidFill>
                <a:latin typeface="Times New Roman"/>
                <a:ea typeface="HG Mincho Light J"/>
              </a:rPr>
              <a:t>polic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?SUB&gt;0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?SUB&gt;0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l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by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th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polic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.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8</a:t>
            </a:r>
            <a:br>
              <a:rPr sz="2200"/>
            </a:br>
            <a:r>
              <a:rPr b="1" lang="en-GB" sz="2200" spc="-1" strike="noStrike">
                <a:solidFill>
                  <a:srgbClr val="c000c0"/>
                </a:solidFill>
                <a:latin typeface="Times New Roman"/>
                <a:ea typeface="HG Mincho Light J"/>
              </a:rPr>
              <a:t>th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ringer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i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kille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by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th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polic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.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9</a:t>
            </a:r>
            <a:br>
              <a:rPr sz="2200"/>
            </a:br>
            <a:r>
              <a:rPr b="1" lang="en-GB" sz="2200" spc="-1" strike="noStrike">
                <a:solidFill>
                  <a:srgbClr val="c000c0"/>
                </a:solidFill>
                <a:latin typeface="Times New Roman"/>
                <a:ea typeface="HG Mincho Light J"/>
              </a:rPr>
              <a:t>polic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kille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ff"/>
                </a:solidFill>
                <a:latin typeface="Times New Roman"/>
                <a:ea typeface="HG Mincho Light J"/>
              </a:rPr>
              <a:t>th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ff"/>
                </a:solidFill>
                <a:latin typeface="Times New Roman"/>
                <a:ea typeface="HG Mincho Light J"/>
              </a:rPr>
              <a:t>gunman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c000c0"/>
                </a:solidFill>
                <a:latin typeface="Times New Roman"/>
                <a:ea typeface="HG Mincho Light J"/>
              </a:rPr>
              <a:t>.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#10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2120" y="5754600"/>
            <a:ext cx="4678200" cy="18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c000"/>
                </a:solidFill>
                <a:latin typeface="Times New Roman"/>
                <a:ea typeface="HG Mincho Light J"/>
              </a:rPr>
              <a:t>green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4-gram match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good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c0c0"/>
                </a:solidFill>
                <a:latin typeface="Times New Roman"/>
                <a:ea typeface="HG Mincho Light J"/>
              </a:rPr>
              <a:t>cya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3-gram m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Times New Roman"/>
                <a:ea typeface="HG Mincho Light J"/>
              </a:rPr>
              <a:t>blue</a:t>
            </a:r>
            <a:r>
              <a:rPr b="0" lang="en-GB" sz="2200" spc="-1" strike="noStrike">
                <a:solidFill>
                  <a:srgbClr val="0000ff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2-gram m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000c0"/>
                </a:solidFill>
                <a:latin typeface="Times New Roman"/>
                <a:ea typeface="HG Mincho Light J"/>
              </a:rPr>
              <a:t>purpl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1-gram m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word not matched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bad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685800" y="1752480"/>
            <a:ext cx="7620120" cy="4662720"/>
            <a:chOff x="685800" y="1752480"/>
            <a:chExt cx="7620120" cy="4662720"/>
          </a:xfrm>
        </p:grpSpPr>
        <p:grpSp>
          <p:nvGrpSpPr>
            <p:cNvPr id="50" name=""/>
            <p:cNvGrpSpPr/>
            <p:nvPr/>
          </p:nvGrpSpPr>
          <p:grpSpPr>
            <a:xfrm>
              <a:off x="685800" y="1752480"/>
              <a:ext cx="2514600" cy="1470240"/>
              <a:chOff x="685800" y="1752480"/>
              <a:chExt cx="2514600" cy="1470240"/>
            </a:xfrm>
          </p:grpSpPr>
          <p:sp>
            <p:nvSpPr>
              <p:cNvPr id="51" name=""/>
              <p:cNvSpPr/>
              <p:nvPr/>
            </p:nvSpPr>
            <p:spPr>
              <a:xfrm>
                <a:off x="685800" y="1752480"/>
                <a:ext cx="2514600" cy="1470240"/>
              </a:xfrm>
              <a:prstGeom prst="roundRect">
                <a:avLst>
                  <a:gd name="adj" fmla="val 106"/>
                </a:avLst>
              </a:prstGeom>
              <a:solidFill>
                <a:srgbClr val="ffffff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85800" y="1752480"/>
                <a:ext cx="25146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1240" indent="-111240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Reference translation 1:</a:t>
                </a:r>
                <a:r>
                  <a:rPr b="0" lang="en-GB" sz="1000" spc="-1" strike="noStrike">
                    <a:solidFill>
                      <a:srgbClr val="c08080"/>
                    </a:solidFill>
                    <a:latin typeface="Times New Roman"/>
                    <a:ea typeface="HG Mincho Light J"/>
                  </a:rPr>
                  <a:t>  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The U.S. island of Guam is maintaining a high state of alert after the Guam airport and its offices both received an e-mail from someone calling himself the Saudi Arabian Osama bin Laden and threatening a biological/chemical attack against public places such as the airport 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85800" y="4944960"/>
              <a:ext cx="2514600" cy="1317600"/>
              <a:chOff x="685800" y="4944960"/>
              <a:chExt cx="2514600" cy="1317600"/>
            </a:xfrm>
          </p:grpSpPr>
          <p:sp>
            <p:nvSpPr>
              <p:cNvPr id="54" name=""/>
              <p:cNvSpPr/>
              <p:nvPr/>
            </p:nvSpPr>
            <p:spPr>
              <a:xfrm>
                <a:off x="685800" y="4944960"/>
                <a:ext cx="2514600" cy="131760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85800" y="4944960"/>
                <a:ext cx="2514600" cy="11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1240" indent="-111240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Reference translation 3:</a:t>
                </a:r>
                <a:r>
                  <a:rPr b="0" lang="en-GB" sz="1000" spc="-1" strike="noStrike">
                    <a:solidFill>
                      <a:srgbClr val="c08080"/>
                    </a:solidFill>
                    <a:latin typeface="Times New Roman"/>
                    <a:ea typeface="HG Mincho Light J"/>
                  </a:rPr>
                  <a:t>  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The US International Airport of Guam and its office has received an email from a self-claimed Arabian millionaire named Laden , which threatens to launch a biochemical attack on such public places as airport . Guam authority has been on alert .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791320" y="4944960"/>
              <a:ext cx="2514600" cy="1470240"/>
              <a:chOff x="5791320" y="4944960"/>
              <a:chExt cx="2514600" cy="1470240"/>
            </a:xfrm>
          </p:grpSpPr>
          <p:sp>
            <p:nvSpPr>
              <p:cNvPr id="57" name=""/>
              <p:cNvSpPr/>
              <p:nvPr/>
            </p:nvSpPr>
            <p:spPr>
              <a:xfrm>
                <a:off x="5791320" y="4944960"/>
                <a:ext cx="2514600" cy="1470240"/>
              </a:xfrm>
              <a:prstGeom prst="roundRect">
                <a:avLst>
                  <a:gd name="adj" fmla="val 106"/>
                </a:avLst>
              </a:prstGeom>
              <a:solidFill>
                <a:srgbClr val="ffffff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791320" y="4944960"/>
                <a:ext cx="25146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1240" indent="-111240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Reference translation 4:</a:t>
                </a:r>
                <a:r>
                  <a:rPr b="0" lang="en-GB" sz="1000" spc="-1" strike="noStrike">
                    <a:solidFill>
                      <a:srgbClr val="c08080"/>
                    </a:solidFill>
                    <a:latin typeface="Times New Roman"/>
                    <a:ea typeface="HG Mincho Light J"/>
                  </a:rPr>
                  <a:t>  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US Guam International Airport and its office received an email from Mr. Bin Laden and other rich businessman from Saudi Arabia . They said there would be biochemistry air raid to Guam Airport and other public places . Guam needs to be in high precaution about this matter .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791320" y="1752480"/>
              <a:ext cx="2514600" cy="1470240"/>
              <a:chOff x="5791320" y="1752480"/>
              <a:chExt cx="2514600" cy="1470240"/>
            </a:xfrm>
          </p:grpSpPr>
          <p:sp>
            <p:nvSpPr>
              <p:cNvPr id="60" name=""/>
              <p:cNvSpPr/>
              <p:nvPr/>
            </p:nvSpPr>
            <p:spPr>
              <a:xfrm>
                <a:off x="5791320" y="1752480"/>
                <a:ext cx="2514600" cy="1470240"/>
              </a:xfrm>
              <a:prstGeom prst="roundRect">
                <a:avLst>
                  <a:gd name="adj" fmla="val 106"/>
                </a:avLst>
              </a:prstGeom>
              <a:solidFill>
                <a:srgbClr val="ffffff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791320" y="1752480"/>
                <a:ext cx="25146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1240" indent="-111240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Reference translation 2:</a:t>
                </a:r>
                <a:r>
                  <a:rPr b="0" lang="en-GB" sz="1000" spc="-1" strike="noStrike">
                    <a:solidFill>
                      <a:srgbClr val="c08080"/>
                    </a:solidFill>
                    <a:latin typeface="Times New Roman"/>
                    <a:ea typeface="HG Mincho Light J"/>
                  </a:rPr>
                  <a:t>  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Guam International Airport and its offices are maintaining a high state of alert after receiving an e-mail that was from a person claiming to be the wealthy Saudi Arabian businessman Bin Laden and that threatened to launch a biological and chemical attack on the airport and other public places .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276720" y="3273480"/>
              <a:ext cx="2438280" cy="1622520"/>
              <a:chOff x="3276720" y="3273480"/>
              <a:chExt cx="2438280" cy="1622520"/>
            </a:xfrm>
          </p:grpSpPr>
          <p:sp>
            <p:nvSpPr>
              <p:cNvPr id="63" name=""/>
              <p:cNvSpPr/>
              <p:nvPr/>
            </p:nvSpPr>
            <p:spPr>
              <a:xfrm>
                <a:off x="3276720" y="3273480"/>
                <a:ext cx="2438280" cy="1622520"/>
              </a:xfrm>
              <a:prstGeom prst="roundRect">
                <a:avLst>
                  <a:gd name="adj" fmla="val 97"/>
                </a:avLst>
              </a:prstGeom>
              <a:solidFill>
                <a:srgbClr val="ffffff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276720" y="3273480"/>
                <a:ext cx="2438280" cy="146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1240" indent="-111240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Machine translation:</a:t>
                </a:r>
                <a:r>
                  <a:rPr b="0" lang="en-GB" sz="1000" spc="-1" strike="noStrike">
                    <a:solidFill>
                      <a:srgbClr val="c08080"/>
                    </a:solidFill>
                    <a:latin typeface="Times New Roman"/>
                    <a:ea typeface="HG Mincho Light J"/>
                  </a:rPr>
                  <a:t>  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The American [?] international airport and its the office all receives one calls self the sand Arab rich business [?] and so on electronic mail , which sends out ;  The threat will be able after public place and so on the airport to start the biochemistry attack , [?] highly alerts after the maintenance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380880" y="0"/>
            <a:ext cx="8382240" cy="1600200"/>
            <a:chOff x="380880" y="0"/>
            <a:chExt cx="8382240" cy="1600200"/>
          </a:xfrm>
        </p:grpSpPr>
        <p:sp>
          <p:nvSpPr>
            <p:cNvPr id="66" name=""/>
            <p:cNvSpPr/>
            <p:nvPr/>
          </p:nvSpPr>
          <p:spPr>
            <a:xfrm>
              <a:off x="380880" y="0"/>
              <a:ext cx="8382240" cy="1600200"/>
            </a:xfrm>
            <a:prstGeom prst="roundRect">
              <a:avLst>
                <a:gd name="adj" fmla="val 9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475560"/>
              <a:ext cx="838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Multiple Reference Translation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85800" y="1752480"/>
            <a:ext cx="7620120" cy="4662720"/>
            <a:chOff x="685800" y="1752480"/>
            <a:chExt cx="7620120" cy="4662720"/>
          </a:xfrm>
        </p:grpSpPr>
        <p:grpSp>
          <p:nvGrpSpPr>
            <p:cNvPr id="69" name=""/>
            <p:cNvGrpSpPr/>
            <p:nvPr/>
          </p:nvGrpSpPr>
          <p:grpSpPr>
            <a:xfrm>
              <a:off x="685800" y="1752480"/>
              <a:ext cx="2514600" cy="1470240"/>
              <a:chOff x="685800" y="1752480"/>
              <a:chExt cx="2514600" cy="1470240"/>
            </a:xfrm>
          </p:grpSpPr>
          <p:sp>
            <p:nvSpPr>
              <p:cNvPr id="70" name=""/>
              <p:cNvSpPr/>
              <p:nvPr/>
            </p:nvSpPr>
            <p:spPr>
              <a:xfrm>
                <a:off x="685800" y="1752480"/>
                <a:ext cx="2514600" cy="1470240"/>
              </a:xfrm>
              <a:prstGeom prst="roundRect">
                <a:avLst>
                  <a:gd name="adj" fmla="val 106"/>
                </a:avLst>
              </a:prstGeom>
              <a:solidFill>
                <a:srgbClr val="ffffff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85800" y="1752480"/>
                <a:ext cx="25146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1240" indent="-111240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Reference translation 1:</a:t>
                </a:r>
                <a:r>
                  <a:rPr b="0" lang="en-GB" sz="1000" spc="-1" strike="noStrike">
                    <a:solidFill>
                      <a:srgbClr val="c08080"/>
                    </a:solidFill>
                    <a:latin typeface="Times New Roman"/>
                    <a:ea typeface="HG Mincho Light J"/>
                  </a:rPr>
                  <a:t>  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The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 U.S. island of Guam is maintaining a high state of alert </a:t>
                </a:r>
                <a:r>
                  <a:rPr b="0" lang="en-GB" sz="1000" spc="-1" strike="noStrike">
                    <a:solidFill>
                      <a:srgbClr val="c00000"/>
                    </a:solidFill>
                    <a:latin typeface="Times New Roman"/>
                    <a:ea typeface="HG Mincho Light J"/>
                  </a:rPr>
                  <a:t>after the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 Guam airport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and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 its offices both received an e-mail from someone calling himself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the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 Saudi Arabian Osama bin Laden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and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 threatening a biological/chemical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attack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 against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public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 places such as </a:t>
                </a:r>
                <a:r>
                  <a:rPr b="0" lang="en-GB" sz="1000" spc="-1" strike="noStrike">
                    <a:solidFill>
                      <a:srgbClr val="c00000"/>
                    </a:solidFill>
                    <a:latin typeface="Times New Roman"/>
                    <a:ea typeface="HG Mincho Light J"/>
                  </a:rPr>
                  <a:t>the airport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 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685800" y="4944960"/>
              <a:ext cx="2514600" cy="1317600"/>
              <a:chOff x="685800" y="4944960"/>
              <a:chExt cx="2514600" cy="1317600"/>
            </a:xfrm>
          </p:grpSpPr>
          <p:sp>
            <p:nvSpPr>
              <p:cNvPr id="73" name=""/>
              <p:cNvSpPr/>
              <p:nvPr/>
            </p:nvSpPr>
            <p:spPr>
              <a:xfrm>
                <a:off x="685800" y="4944960"/>
                <a:ext cx="2514600" cy="131760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85800" y="4944960"/>
                <a:ext cx="2514600" cy="11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1240" indent="-111240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Reference translation 3:</a:t>
                </a:r>
                <a:r>
                  <a:rPr b="0" lang="en-GB" sz="1000" spc="-1" strike="noStrike">
                    <a:solidFill>
                      <a:srgbClr val="c08080"/>
                    </a:solidFill>
                    <a:latin typeface="Times New Roman"/>
                    <a:ea typeface="HG Mincho Light J"/>
                  </a:rPr>
                  <a:t>  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The US International Airport of Guam and its office has received an email from a self-claimed Arabian millionaire named Laden </a:t>
                </a:r>
                <a:r>
                  <a:rPr b="0" lang="en-GB" sz="1000" spc="-1" strike="noStrike">
                    <a:solidFill>
                      <a:srgbClr val="c00000"/>
                    </a:solidFill>
                    <a:latin typeface="Times New Roman"/>
                    <a:ea typeface="HG Mincho Light J"/>
                  </a:rPr>
                  <a:t>,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 </a:t>
                </a:r>
                <a:r>
                  <a:rPr b="0" lang="en-GB" sz="1000" spc="-1" strike="noStrike">
                    <a:solidFill>
                      <a:srgbClr val="c00000"/>
                    </a:solidFill>
                    <a:latin typeface="Times New Roman"/>
                    <a:ea typeface="HG Mincho Light J"/>
                  </a:rPr>
                  <a:t>which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 threatens to launch a biochemical attack on such public places as airport . Guam authority has been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on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 alert .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791320" y="4944960"/>
              <a:ext cx="2514600" cy="1470240"/>
              <a:chOff x="5791320" y="4944960"/>
              <a:chExt cx="2514600" cy="1470240"/>
            </a:xfrm>
          </p:grpSpPr>
          <p:sp>
            <p:nvSpPr>
              <p:cNvPr id="76" name=""/>
              <p:cNvSpPr/>
              <p:nvPr/>
            </p:nvSpPr>
            <p:spPr>
              <a:xfrm>
                <a:off x="5791320" y="4944960"/>
                <a:ext cx="2514600" cy="1470240"/>
              </a:xfrm>
              <a:prstGeom prst="roundRect">
                <a:avLst>
                  <a:gd name="adj" fmla="val 106"/>
                </a:avLst>
              </a:prstGeom>
              <a:solidFill>
                <a:srgbClr val="ffffff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791320" y="4944960"/>
                <a:ext cx="25146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1240" indent="-111240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Reference translation 4:</a:t>
                </a:r>
                <a:r>
                  <a:rPr b="0" lang="en-GB" sz="1000" spc="-1" strike="noStrike">
                    <a:solidFill>
                      <a:srgbClr val="c08080"/>
                    </a:solidFill>
                    <a:latin typeface="Times New Roman"/>
                    <a:ea typeface="HG Mincho Light J"/>
                  </a:rPr>
                  <a:t>  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US Guam International Airport and its office received an email from Mr. Bin Laden and other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rich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 businessman from Saudi Arabia . They said there would be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biochemistry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 air raid to Guam Airport and other public places . Guam needs to be in high precaution about this matter .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5791320" y="1752480"/>
              <a:ext cx="2514600" cy="1470240"/>
              <a:chOff x="5791320" y="1752480"/>
              <a:chExt cx="2514600" cy="1470240"/>
            </a:xfrm>
          </p:grpSpPr>
          <p:sp>
            <p:nvSpPr>
              <p:cNvPr id="79" name=""/>
              <p:cNvSpPr/>
              <p:nvPr/>
            </p:nvSpPr>
            <p:spPr>
              <a:xfrm>
                <a:off x="5791320" y="1752480"/>
                <a:ext cx="2514600" cy="1470240"/>
              </a:xfrm>
              <a:prstGeom prst="roundRect">
                <a:avLst>
                  <a:gd name="adj" fmla="val 106"/>
                </a:avLst>
              </a:prstGeom>
              <a:solidFill>
                <a:srgbClr val="ffffff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91320" y="1752480"/>
                <a:ext cx="25146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1240" indent="-111240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Reference translation 2:</a:t>
                </a:r>
                <a:r>
                  <a:rPr b="0" lang="en-GB" sz="1000" spc="-1" strike="noStrike">
                    <a:solidFill>
                      <a:srgbClr val="c08080"/>
                    </a:solidFill>
                    <a:latin typeface="Times New Roman"/>
                    <a:ea typeface="HG Mincho Light J"/>
                  </a:rPr>
                  <a:t>  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Guam </a:t>
                </a:r>
                <a:r>
                  <a:rPr b="0" lang="en-GB" sz="1000" spc="-1" strike="noStrike">
                    <a:solidFill>
                      <a:srgbClr val="ff0000"/>
                    </a:solidFill>
                    <a:latin typeface="Times New Roman"/>
                    <a:ea typeface="HG Mincho Light J"/>
                  </a:rPr>
                  <a:t>International Airport and its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 offices are maintaining a high state of alert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after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 receiving an e-mail that was from a person claiming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to be 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the wealthy Saudi Arabian businessman Bin Laden and that threatened to launch a biological and chemical attack </a:t>
                </a:r>
                <a:r>
                  <a:rPr b="0" lang="en-GB" sz="1000" spc="-1" strike="noStrike">
                    <a:solidFill>
                      <a:srgbClr val="c00000"/>
                    </a:solidFill>
                    <a:latin typeface="Times New Roman"/>
                    <a:ea typeface="HG Mincho Light J"/>
                  </a:rPr>
                  <a:t>on the</a:t>
                </a:r>
                <a:r>
                  <a:rPr b="0" lang="en-GB" sz="1000" spc="-1" strike="noStrike">
                    <a:solidFill>
                      <a:srgbClr val="009900"/>
                    </a:solidFill>
                    <a:latin typeface="Times New Roman"/>
                    <a:ea typeface="HG Mincho Light J"/>
                  </a:rPr>
                  <a:t> airport and other public places .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3276720" y="3273480"/>
              <a:ext cx="2438280" cy="1622520"/>
              <a:chOff x="3276720" y="3273480"/>
              <a:chExt cx="2438280" cy="1622520"/>
            </a:xfrm>
          </p:grpSpPr>
          <p:sp>
            <p:nvSpPr>
              <p:cNvPr id="82" name=""/>
              <p:cNvSpPr/>
              <p:nvPr/>
            </p:nvSpPr>
            <p:spPr>
              <a:xfrm>
                <a:off x="3276720" y="3273480"/>
                <a:ext cx="2438280" cy="1622520"/>
              </a:xfrm>
              <a:prstGeom prst="roundRect">
                <a:avLst>
                  <a:gd name="adj" fmla="val 97"/>
                </a:avLst>
              </a:prstGeom>
              <a:solidFill>
                <a:srgbClr val="ffffff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76720" y="3273480"/>
                <a:ext cx="2438280" cy="146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1240" indent="-111240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  <a:ea typeface="HG Mincho Light J"/>
                  </a:rPr>
                  <a:t>Machine translation:</a:t>
                </a:r>
                <a:r>
                  <a:rPr b="0" lang="en-GB" sz="1000" spc="-1" strike="noStrike">
                    <a:solidFill>
                      <a:srgbClr val="c08080"/>
                    </a:solidFill>
                    <a:latin typeface="Times New Roman"/>
                    <a:ea typeface="HG Mincho Light J"/>
                  </a:rPr>
                  <a:t>  </a:t>
                </a:r>
                <a:br>
                  <a:rPr sz="1000"/>
                </a:b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The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American [?] </a:t>
                </a:r>
                <a:r>
                  <a:rPr b="0" lang="en-GB" sz="1000" spc="-1" strike="noStrike">
                    <a:solidFill>
                      <a:srgbClr val="ff0000"/>
                    </a:solidFill>
                    <a:latin typeface="Times New Roman"/>
                    <a:ea typeface="HG Mincho Light J"/>
                  </a:rPr>
                  <a:t>international airport and its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the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office all receives one calls self the sand Arab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rich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business [?]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and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so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on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electronic mail </a:t>
                </a:r>
                <a:r>
                  <a:rPr b="0" lang="en-GB" sz="1000" spc="-1" strike="noStrike">
                    <a:solidFill>
                      <a:srgbClr val="c00000"/>
                    </a:solidFill>
                    <a:latin typeface="Times New Roman"/>
                    <a:ea typeface="HG Mincho Light J"/>
                  </a:rPr>
                  <a:t>,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</a:t>
                </a:r>
                <a:r>
                  <a:rPr b="0" lang="en-GB" sz="1000" spc="-1" strike="noStrike">
                    <a:solidFill>
                      <a:srgbClr val="c00000"/>
                    </a:solidFill>
                    <a:latin typeface="Times New Roman"/>
                    <a:ea typeface="HG Mincho Light J"/>
                  </a:rPr>
                  <a:t>which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sends out ;  The threat will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be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able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after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public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place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and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so </a:t>
                </a:r>
                <a:r>
                  <a:rPr b="0" lang="en-GB" sz="1000" spc="-1" strike="noStrike">
                    <a:solidFill>
                      <a:srgbClr val="c00000"/>
                    </a:solidFill>
                    <a:latin typeface="Times New Roman"/>
                    <a:ea typeface="HG Mincho Light J"/>
                  </a:rPr>
                  <a:t>on the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</a:t>
                </a:r>
                <a:r>
                  <a:rPr b="0" lang="en-GB" sz="1000" spc="-1" strike="noStrike">
                    <a:solidFill>
                      <a:srgbClr val="c00000"/>
                    </a:solidFill>
                    <a:latin typeface="Times New Roman"/>
                    <a:ea typeface="HG Mincho Light J"/>
                  </a:rPr>
                  <a:t>airport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to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start the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biochemistry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</a:t>
                </a:r>
                <a:r>
                  <a:rPr b="0" lang="en-GB" sz="1000" spc="-1" strike="noStrike">
                    <a:solidFill>
                      <a:srgbClr val="800000"/>
                    </a:solidFill>
                    <a:latin typeface="Times New Roman"/>
                    <a:ea typeface="HG Mincho Light J"/>
                  </a:rPr>
                  <a:t>attack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, [?] highly alerts </a:t>
                </a:r>
                <a:r>
                  <a:rPr b="0" lang="en-GB" sz="1000" spc="-1" strike="noStrike">
                    <a:solidFill>
                      <a:srgbClr val="c00000"/>
                    </a:solidFill>
                    <a:latin typeface="Times New Roman"/>
                    <a:ea typeface="HG Mincho Light J"/>
                  </a:rPr>
                  <a:t>after the</a:t>
                </a:r>
                <a:r>
                  <a:rPr b="0" lang="en-GB" sz="1000" spc="-1" strike="noStrike">
                    <a:solidFill>
                      <a:srgbClr val="333399"/>
                    </a:solidFill>
                    <a:latin typeface="Times New Roman"/>
                    <a:ea typeface="HG Mincho Light J"/>
                  </a:rPr>
                  <a:t> maintenance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3857760" y="4394160"/>
              <a:ext cx="15228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48400" y="2413080"/>
              <a:ext cx="15264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81680" y="4086360"/>
              <a:ext cx="15228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" name=""/>
            <p:cNvCxnSpPr>
              <a:stCxn id="85" idx="2"/>
              <a:endCxn id="86" idx="0"/>
            </p:cNvCxnSpPr>
            <p:nvPr/>
          </p:nvCxnSpPr>
          <p:spPr>
            <a:xfrm flipH="1">
              <a:off x="5056920" y="2565000"/>
              <a:ext cx="2467800" cy="152172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88" name=""/>
            <p:cNvSpPr/>
            <p:nvPr/>
          </p:nvSpPr>
          <p:spPr>
            <a:xfrm>
              <a:off x="5977080" y="3025800"/>
              <a:ext cx="38088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6920" y="4241880"/>
              <a:ext cx="38088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8" idx="2"/>
              <a:endCxn id="89" idx="0"/>
            </p:cNvCxnSpPr>
            <p:nvPr/>
          </p:nvCxnSpPr>
          <p:spPr>
            <a:xfrm flipH="1">
              <a:off x="5067000" y="3177720"/>
              <a:ext cx="1100880" cy="1064520"/>
            </a:xfrm>
            <a:prstGeom prst="straightConnector1">
              <a:avLst/>
            </a:prstGeom>
            <a:ln w="6480">
              <a:solidFill>
                <a:srgbClr val="c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5033880" y="4241880"/>
              <a:ext cx="2286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90880" y="3938760"/>
              <a:ext cx="15264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62000" y="6072120"/>
              <a:ext cx="15264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92" idx="2"/>
              <a:endCxn id="93" idx="0"/>
            </p:cNvCxnSpPr>
            <p:nvPr/>
          </p:nvCxnSpPr>
          <p:spPr>
            <a:xfrm flipH="1">
              <a:off x="2037960" y="4090680"/>
              <a:ext cx="1929600" cy="198180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cxnSp>
          <p:nvCxnSpPr>
            <p:cNvPr id="95" name=""/>
            <p:cNvCxnSpPr>
              <a:stCxn id="96" idx="2"/>
              <a:endCxn id="97" idx="0"/>
            </p:cNvCxnSpPr>
            <p:nvPr/>
          </p:nvCxnSpPr>
          <p:spPr>
            <a:xfrm flipH="1">
              <a:off x="1897920" y="4086360"/>
              <a:ext cx="3221640" cy="1521360"/>
            </a:xfrm>
            <a:prstGeom prst="straightConnector1">
              <a:avLst/>
            </a:prstGeom>
            <a:ln w="6480">
              <a:solidFill>
                <a:srgbClr val="c00000"/>
              </a:solidFill>
              <a:miter/>
            </a:ln>
          </p:spPr>
        </p:cxnSp>
        <p:sp>
          <p:nvSpPr>
            <p:cNvPr id="98" name=""/>
            <p:cNvSpPr/>
            <p:nvPr/>
          </p:nvSpPr>
          <p:spPr>
            <a:xfrm>
              <a:off x="880920" y="2722680"/>
              <a:ext cx="2286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67240" y="4238640"/>
              <a:ext cx="2286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" name=""/>
            <p:cNvCxnSpPr>
              <a:stCxn id="98" idx="2"/>
              <a:endCxn id="99" idx="0"/>
            </p:cNvCxnSpPr>
            <p:nvPr/>
          </p:nvCxnSpPr>
          <p:spPr>
            <a:xfrm>
              <a:off x="995040" y="2874960"/>
              <a:ext cx="3586680" cy="136440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101" name=""/>
            <p:cNvSpPr/>
            <p:nvPr/>
          </p:nvSpPr>
          <p:spPr>
            <a:xfrm>
              <a:off x="4486320" y="4394160"/>
              <a:ext cx="76212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15280" y="5762520"/>
              <a:ext cx="76176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1" idx="2"/>
              <a:endCxn id="102" idx="0"/>
            </p:cNvCxnSpPr>
            <p:nvPr/>
          </p:nvCxnSpPr>
          <p:spPr>
            <a:xfrm>
              <a:off x="4867200" y="4546440"/>
              <a:ext cx="2029680" cy="121680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104" name=""/>
            <p:cNvSpPr/>
            <p:nvPr/>
          </p:nvSpPr>
          <p:spPr>
            <a:xfrm>
              <a:off x="1685880" y="2874960"/>
              <a:ext cx="38088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53000" y="4241880"/>
              <a:ext cx="38088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" name=""/>
            <p:cNvCxnSpPr>
              <a:stCxn id="104" idx="2"/>
              <a:endCxn id="105" idx="0"/>
            </p:cNvCxnSpPr>
            <p:nvPr/>
          </p:nvCxnSpPr>
          <p:spPr>
            <a:xfrm>
              <a:off x="1876320" y="3025800"/>
              <a:ext cx="2067840" cy="121680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107" name=""/>
            <p:cNvSpPr/>
            <p:nvPr/>
          </p:nvSpPr>
          <p:spPr>
            <a:xfrm>
              <a:off x="871560" y="2874960"/>
              <a:ext cx="38088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38720" y="4394160"/>
              <a:ext cx="38088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107" idx="2"/>
              <a:endCxn id="108" idx="0"/>
            </p:cNvCxnSpPr>
            <p:nvPr/>
          </p:nvCxnSpPr>
          <p:spPr>
            <a:xfrm>
              <a:off x="1061640" y="3025440"/>
              <a:ext cx="4367880" cy="136908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110" name=""/>
            <p:cNvSpPr/>
            <p:nvPr/>
          </p:nvSpPr>
          <p:spPr>
            <a:xfrm>
              <a:off x="6262560" y="2262240"/>
              <a:ext cx="30492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8080" y="4241880"/>
              <a:ext cx="30492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"/>
            <p:cNvCxnSpPr>
              <a:stCxn id="110" idx="2"/>
              <a:endCxn id="111" idx="0"/>
            </p:cNvCxnSpPr>
            <p:nvPr/>
          </p:nvCxnSpPr>
          <p:spPr>
            <a:xfrm flipH="1">
              <a:off x="3599640" y="2413080"/>
              <a:ext cx="2815560" cy="182952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113" name=""/>
            <p:cNvSpPr/>
            <p:nvPr/>
          </p:nvSpPr>
          <p:spPr>
            <a:xfrm>
              <a:off x="833400" y="1957320"/>
              <a:ext cx="30492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9000" y="3478320"/>
              <a:ext cx="30492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>
              <a:stCxn id="113" idx="2"/>
              <a:endCxn id="114" idx="0"/>
            </p:cNvCxnSpPr>
            <p:nvPr/>
          </p:nvCxnSpPr>
          <p:spPr>
            <a:xfrm>
              <a:off x="985680" y="2109600"/>
              <a:ext cx="2596320" cy="136908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116" name=""/>
            <p:cNvSpPr/>
            <p:nvPr/>
          </p:nvSpPr>
          <p:spPr>
            <a:xfrm>
              <a:off x="866880" y="2570040"/>
              <a:ext cx="22860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67120" y="3630600"/>
              <a:ext cx="2286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6" idx="2"/>
              <a:endCxn id="117" idx="0"/>
            </p:cNvCxnSpPr>
            <p:nvPr/>
          </p:nvCxnSpPr>
          <p:spPr>
            <a:xfrm>
              <a:off x="980640" y="2722680"/>
              <a:ext cx="3001320" cy="90864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119" name=""/>
            <p:cNvSpPr/>
            <p:nvPr/>
          </p:nvSpPr>
          <p:spPr>
            <a:xfrm>
              <a:off x="4524480" y="3786120"/>
              <a:ext cx="22860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9000" y="5459400"/>
              <a:ext cx="2286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9" idx="2"/>
              <a:endCxn id="120" idx="0"/>
            </p:cNvCxnSpPr>
            <p:nvPr/>
          </p:nvCxnSpPr>
          <p:spPr>
            <a:xfrm>
              <a:off x="4638240" y="3938760"/>
              <a:ext cx="2414880" cy="152136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122" name=""/>
            <p:cNvSpPr/>
            <p:nvPr/>
          </p:nvSpPr>
          <p:spPr>
            <a:xfrm>
              <a:off x="1276200" y="2266920"/>
              <a:ext cx="2286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86240" y="3938760"/>
              <a:ext cx="2286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22" idx="2"/>
              <a:endCxn id="123" idx="0"/>
            </p:cNvCxnSpPr>
            <p:nvPr/>
          </p:nvCxnSpPr>
          <p:spPr>
            <a:xfrm>
              <a:off x="1390680" y="2417400"/>
              <a:ext cx="2210400" cy="152172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125" name=""/>
            <p:cNvSpPr/>
            <p:nvPr/>
          </p:nvSpPr>
          <p:spPr>
            <a:xfrm>
              <a:off x="6377040" y="1957320"/>
              <a:ext cx="152388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>
              <a:stCxn id="125" idx="2"/>
              <a:endCxn id="127" idx="0"/>
            </p:cNvCxnSpPr>
            <p:nvPr/>
          </p:nvCxnSpPr>
          <p:spPr>
            <a:xfrm flipH="1">
              <a:off x="3668040" y="2109960"/>
              <a:ext cx="3469320" cy="15213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</a:ln>
          </p:spPr>
        </p:cxnSp>
        <p:cxnSp>
          <p:nvCxnSpPr>
            <p:cNvPr id="128" name=""/>
            <p:cNvCxnSpPr>
              <a:stCxn id="125" idx="2"/>
              <a:endCxn id="129" idx="0"/>
            </p:cNvCxnSpPr>
            <p:nvPr/>
          </p:nvCxnSpPr>
          <p:spPr>
            <a:xfrm flipH="1">
              <a:off x="5033520" y="2109600"/>
              <a:ext cx="2106000" cy="1369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</a:ln>
          </p:spPr>
        </p:cxnSp>
        <p:sp>
          <p:nvSpPr>
            <p:cNvPr id="130" name=""/>
            <p:cNvSpPr/>
            <p:nvPr/>
          </p:nvSpPr>
          <p:spPr>
            <a:xfrm>
              <a:off x="4419720" y="4546440"/>
              <a:ext cx="53316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32" idx="2"/>
              <a:endCxn id="130" idx="0"/>
            </p:cNvCxnSpPr>
            <p:nvPr/>
          </p:nvCxnSpPr>
          <p:spPr>
            <a:xfrm>
              <a:off x="2238480" y="2266560"/>
              <a:ext cx="2448720" cy="2282040"/>
            </a:xfrm>
            <a:prstGeom prst="straightConnector1">
              <a:avLst/>
            </a:prstGeom>
            <a:ln w="6480">
              <a:solidFill>
                <a:srgbClr val="c00000"/>
              </a:solidFill>
              <a:miter/>
            </a:ln>
          </p:spPr>
        </p:cxnSp>
        <p:sp>
          <p:nvSpPr>
            <p:cNvPr id="132" name=""/>
            <p:cNvSpPr/>
            <p:nvPr/>
          </p:nvSpPr>
          <p:spPr>
            <a:xfrm>
              <a:off x="1981080" y="2114640"/>
              <a:ext cx="51444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43400" y="4394160"/>
              <a:ext cx="43344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1560" y="3025800"/>
              <a:ext cx="60948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4" idx="2"/>
              <a:endCxn id="133" idx="0"/>
            </p:cNvCxnSpPr>
            <p:nvPr/>
          </p:nvCxnSpPr>
          <p:spPr>
            <a:xfrm>
              <a:off x="1176120" y="3178080"/>
              <a:ext cx="2485080" cy="1216800"/>
            </a:xfrm>
            <a:prstGeom prst="straightConnector1">
              <a:avLst/>
            </a:prstGeom>
            <a:ln w="6480">
              <a:solidFill>
                <a:srgbClr val="c00000"/>
              </a:solidFill>
              <a:miter/>
            </a:ln>
          </p:spPr>
        </p:cxnSp>
        <p:cxnSp>
          <p:nvCxnSpPr>
            <p:cNvPr id="136" name=""/>
            <p:cNvCxnSpPr>
              <a:stCxn id="134" idx="2"/>
              <a:endCxn id="91" idx="0"/>
            </p:cNvCxnSpPr>
            <p:nvPr/>
          </p:nvCxnSpPr>
          <p:spPr>
            <a:xfrm>
              <a:off x="1176120" y="3177720"/>
              <a:ext cx="3972600" cy="1064520"/>
            </a:xfrm>
            <a:prstGeom prst="straightConnector1">
              <a:avLst/>
            </a:prstGeom>
            <a:ln w="6480">
              <a:solidFill>
                <a:srgbClr val="c00000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3452760" y="3630600"/>
              <a:ext cx="43344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62560" y="3478320"/>
              <a:ext cx="11430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90960" y="3933720"/>
              <a:ext cx="45720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76520" y="5605560"/>
              <a:ext cx="4428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96120" y="2413080"/>
              <a:ext cx="15228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37" idx="2"/>
              <a:endCxn id="84" idx="0"/>
            </p:cNvCxnSpPr>
            <p:nvPr/>
          </p:nvCxnSpPr>
          <p:spPr>
            <a:xfrm flipH="1">
              <a:off x="3933360" y="2565360"/>
              <a:ext cx="3439440" cy="182952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372600"/>
            <a:ext cx="930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ARPA MT Evaluation Corpus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1 Human Translations of 100 Chinese News Arti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60640" y="1828800"/>
            <a:ext cx="7602480" cy="42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23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Times New Roman"/>
                <a:ea typeface="HG Mincho Light J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t least 12 people were killed in the battle last week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1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ast week 's fight took at least 12 liv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1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he fighting last week killed at least 1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1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he battle of last week killed at least 12 pers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1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t least 12 people lost their lives in last week 's fight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1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t least 12 persons died in the fighting last wee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1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t least 12 died in the battle last wee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1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t least 12 people were killed in the fighting last wee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1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uring last week 's fighting , at least 12 people di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1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ast week at least twelve people died in the fight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86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ast week 's fighting took the lives of twelve peopl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HG Mincho Light J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HG Mincho Light J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464040"/>
            <a:ext cx="913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LEU i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1240" y="1827360"/>
            <a:ext cx="904896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ow man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-grams in the outpu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at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-grams in the referenc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ually 1-gram to 4-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ength penalty to assure that output is of similar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LEU = BP * exp(w1 * log p1 + ... + w4 * log p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n = correct n-grams / count n-grams in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 = min(1, exp(length_output/length_reference)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8520" y="144720"/>
            <a:ext cx="977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LEU Tends to Predict Human Ju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44880" y="1581120"/>
          <a:ext cx="6176880" cy="54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4880" y="1581120"/>
                    <a:ext cx="617688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693760" y="697860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lide from G. Doddington (N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1302480" y="211680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variant of BLE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49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eveloping with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3600" y="1644120"/>
            <a:ext cx="860724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ck improvements – quit dead ends ear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84200" y="2532240"/>
          <a:ext cx="925668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2532240"/>
                    <a:ext cx="925668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